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4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DF3E-6D90-465D-B5C0-CC301585A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A169-F12B-4168-BF9C-69EFDB856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5818-C8B6-442F-8EA5-E6CC9A41F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7536-F255-4B4B-A188-CB3F9DE7B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0973-D421-4551-80EC-6CE7A31E0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6536-020F-4EFB-8188-EF100D221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19B9-9A26-4A87-BF51-CBB726BC4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2393-D050-494C-8DDD-CD9C7A22E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3ECB-C935-469C-B7DD-AC686F838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792C-F79E-4E37-AC33-14AFCF5FC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CDD6-D3CF-4657-B4F3-B273113BD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A2B2-2E75-4EB0-AA46-B6BCD5B9D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EA12-DCA8-4FAC-BCF2-D7F7D4978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2403-2633-43BD-BC0F-F98CF9B55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9CF7-7366-4550-AEE1-E8C468A76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0C71-3133-4D96-9AD2-E3D4FD79A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50C4-56F0-4870-B53A-4CF7337A6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2E8D-E20B-4E62-A5B5-6E003E1DD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CF60-4AD6-4980-ADF1-754605623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93A9-14A8-4553-AAFC-DAB8B8BAF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9E6D-AEFF-44A3-B477-4006D4C5E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8616-DA29-406D-B9D7-A5EEA9FDB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ED0B-8F62-463B-A324-F5AFD1464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405A-AF30-4013-B980-A228E816C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3A70-574F-4300-857D-8444C9259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567B-9537-43C1-8027-87951F77A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6594-7DF6-4C1D-8F00-08F065E8E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86EE-E630-493B-A883-C9936BABF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6034-3FB1-4ADC-9B5D-3957D6DE7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EA37-70D3-4692-802C-E9D694F2F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CB08-7448-46A6-8402-74B39E2C8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E8BF-AB35-48BC-81E5-B05E43DE2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DCFD3-92D1-419A-A2EF-D018BFFDD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BF87E-02A3-4719-89E2-7E717F9E5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B0B7B-A7F3-4EC8-8D80-E3547F68E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9BB6F-6FE0-4C60-9488-775E7694C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8FA5-DFB5-45B2-BB62-A9C2C56839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7FFC-1B1B-4035-B4C9-9EB3A2EEC0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896-7C13-43FD-8E80-58D7B74990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503C-B611-4B42-AC8B-8DF8313F60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AF7-9322-4E93-A148-78A77B387E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AB3A-C3CF-4983-98E3-D8FE73254D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781-E186-4CFD-8C03-B0DD814EB8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D2606-C54E-468B-B451-144046053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D130-63A0-4A5D-8E5D-57B61AB1B9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AFDD-D369-4114-B011-DE9E915B44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AC08-2492-48CE-97B2-B1245BC33D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8E18-C459-457B-A98B-CFBB946CE7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9754-A71F-4692-A2F0-4565CBFD85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E4C08-3AB5-437A-9A50-29E58EA598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8B1A5-4C3A-4E91-A67C-D1D3D9F09F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988DA-3470-47A1-92DC-C86C356789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228C0-6887-4964-8D09-4BB27B874E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90C3C-FFA4-42E6-A215-6DACD5E74E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38CC9-B8C3-4C04-9F91-73422A75AA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0139B-E7B4-41BC-8C94-BD5B91963A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E3739-5134-4B21-96C9-F08059B44F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39234-C9A3-4CFC-880B-850B34569A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377DD-4092-403B-B275-7C64DD8451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FF052-CC15-405F-A4F0-682970A458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1F9C7-BD9E-41DF-A396-7AF976B93B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A89C9-432E-4465-A391-A2F247FDC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1E84B-F6A9-445F-83F8-65D9FE124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D5968-E62B-41C9-B81E-6E6C15089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4CDEE-AEF3-49FF-BFB2-46C8318CB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C54AB-DD79-46D8-A512-78937CC96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A7AE0-21D6-403C-8139-3933D93F8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760F4-79CF-428F-8227-2AE2E4E4F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61976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97F6-DFC2-4AE1-BA5D-C3927F64FD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761976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261A-23CD-4994-9D41-796D3AA5C6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4"/>
          </p:nvPr>
        </p:nvSpPr>
        <p:spPr>
          <a:xfrm>
            <a:off x="457200" y="6429240"/>
            <a:ext cx="50292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5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7135-52A2-499A-9C18-334FBE13B3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81080" y="1833480"/>
            <a:ext cx="7010640" cy="23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Контроль качества исследований на чувствительность к антимикробным препарата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5024-8DAA-4455-B647-79C9A1727F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66636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колонии для анализ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28B9-9C3B-4D27-B779-946FB8C5AC62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576C-4736-4DBB-97D8-26D68CEE61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17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андарт МакФарланда 0,5 и доведенная суспензия исследуемого микроорганиз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20BD-C2FE-4BFD-BBAA-35220FA0592A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2"/>
          <p:cNvGraphicFramePr/>
          <p:nvPr/>
        </p:nvGraphicFramePr>
        <p:xfrm>
          <a:off x="1220760" y="228600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228600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E529-3346-4E26-ADF3-D84E955F1E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737F-9672-48A0-B32D-09EA3AC5CDBD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ование диспенсеров для диск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765080"/>
            <a:ext cx="5181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о, быстр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ивает воспроизвод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иски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мина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теряют навыки распределе-ния дисков вручну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distributeur"/>
          <p:cNvPicPr/>
          <p:nvPr/>
        </p:nvPicPr>
        <p:blipFill>
          <a:blip r:embed="rId1"/>
          <a:stretch/>
        </p:blipFill>
        <p:spPr>
          <a:xfrm>
            <a:off x="5105520" y="1905120"/>
            <a:ext cx="3886200" cy="32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24F3-606B-4F4C-9295-C9E3410F1C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1A6C-65CC-4D8B-B4AA-790FF0B97329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ые проблемы при анализах на чувствительность с диска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58" name="Picture 12" descr="Too Heavy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44956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609480" y="5435640"/>
            <a:ext cx="2971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и расположены равном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5257800" y="5334120"/>
            <a:ext cx="31240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и расположены равномер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ишком ГУСТОЙ пос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98FA-4EB6-4C27-A18B-F1D22CA216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Disk moved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6004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1"/>
          <p:cNvSpPr/>
          <p:nvPr/>
        </p:nvSpPr>
        <p:spPr>
          <a:xfrm>
            <a:off x="380880" y="38556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ые проблемы при анализах на чувствительность с дис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685800" y="5257800"/>
            <a:ext cx="2971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и расположены равном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5410080" y="5265720"/>
            <a:ext cx="29718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оны неправильной формы, потому что диски расположены неравном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C647-E461-442C-B14E-6EBF09B2CC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16CC-C539-407E-8029-EC99D6F73DC4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3374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змерение размера зон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2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8"/>
          <p:cNvSpPr/>
          <p:nvPr/>
        </p:nvSpPr>
        <p:spPr>
          <a:xfrm>
            <a:off x="6127200" y="403848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664640" y="403848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тангенцирк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еспечьте хорошее освещение, измеряйте с обратной стороны ча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 разных антибиотиков разный размер з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огут помочь увеличительные приб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 миллиметры играют 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9EB6-3BB2-428C-9592-C2A7154D42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520" y="698040"/>
            <a:ext cx="84582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 градиента антибиотик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9863-2DB4-4210-92DB-9E229E1D9E9F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457200" y="642924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4034-B199-41CD-BF26-38D97985DF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3906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зультаты анализов будут неправильными, есл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икроорганизм был неправильно идентифициров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сделана ошибка при записи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и выбраны неправильные антибиот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исследована проба не того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 запрошен неправильн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была обеспечена сохраннос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9878-F1A9-4B55-AABA-B023BDB214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1686-6AA9-49BF-8352-2D40DCC3B8C7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я на чувствительность к антибиотика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5" name="Picture 4" descr="k_b"/>
          <p:cNvPicPr/>
          <p:nvPr/>
        </p:nvPicPr>
        <p:blipFill>
          <a:blip r:embed="rId1"/>
          <a:stretch/>
        </p:blipFill>
        <p:spPr>
          <a:xfrm>
            <a:off x="457200" y="1963800"/>
            <a:ext cx="1714680" cy="1668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96380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micmlc2"/>
          <p:cNvPicPr/>
          <p:nvPr/>
        </p:nvPicPr>
        <p:blipFill>
          <a:blip r:embed="rId3"/>
          <a:stretch/>
        </p:blipFill>
        <p:spPr>
          <a:xfrm>
            <a:off x="4114800" y="1963800"/>
            <a:ext cx="2209680" cy="1749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vitek-2"/>
          <p:cNvPicPr/>
          <p:nvPr/>
        </p:nvPicPr>
        <p:blipFill>
          <a:blip r:embed="rId4"/>
          <a:stretch/>
        </p:blipFill>
        <p:spPr>
          <a:xfrm>
            <a:off x="6400800" y="19638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1"/>
          <p:cNvSpPr/>
          <p:nvPr/>
        </p:nvSpPr>
        <p:spPr>
          <a:xfrm>
            <a:off x="676440" y="4114800"/>
            <a:ext cx="793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оставляют информацию для выбора подходящих препаратов для антимикробного л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457200" y="642924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B2DC-B45C-4055-92C6-1EF3D69AF9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666360"/>
            <a:ext cx="7391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зультаты разных метод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етод диффузии в агар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качественные результаты в одной из категорий: чувствительные, промежуточные или устойчив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етоды микроразведений и градиентной диффузии в агар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ют количественный результат, минимальную ингибирующую концентр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C163-8EDE-40D2-9D16-8B4D25FC23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80880" y="45720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пределения чувстви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685800" y="1143000"/>
            <a:ext cx="7558200" cy="5227560"/>
            <a:chOff x="685800" y="1143000"/>
            <a:chExt cx="7558200" cy="5227560"/>
          </a:xfrm>
        </p:grpSpPr>
        <p:pic>
          <p:nvPicPr>
            <p:cNvPr id="178" name="Picture 4" descr="PBL Susceptibility testing 2008"/>
            <p:cNvPicPr/>
            <p:nvPr/>
          </p:nvPicPr>
          <p:blipFill>
            <a:blip r:embed="rId1"/>
            <a:srcRect l="4364" t="8470" r="5455" b="8470"/>
            <a:stretch/>
          </p:blipFill>
          <p:spPr>
            <a:xfrm>
              <a:off x="685800" y="1143000"/>
              <a:ext cx="7558200" cy="52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1"/>
            <p:cNvSpPr/>
            <p:nvPr/>
          </p:nvSpPr>
          <p:spPr>
            <a:xfrm>
              <a:off x="761760" y="2666880"/>
              <a:ext cx="1600200" cy="70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робирки со средой, бактериями и возрастающей концентрацией антибиотик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2"/>
            <p:cNvSpPr/>
            <p:nvPr/>
          </p:nvSpPr>
          <p:spPr>
            <a:xfrm>
              <a:off x="972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7"/>
            <p:cNvSpPr/>
            <p:nvPr/>
          </p:nvSpPr>
          <p:spPr>
            <a:xfrm>
              <a:off x="15372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8"/>
            <p:cNvSpPr/>
            <p:nvPr/>
          </p:nvSpPr>
          <p:spPr>
            <a:xfrm>
              <a:off x="21132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9"/>
            <p:cNvSpPr/>
            <p:nvPr/>
          </p:nvSpPr>
          <p:spPr>
            <a:xfrm>
              <a:off x="2628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11"/>
            <p:cNvSpPr/>
            <p:nvPr/>
          </p:nvSpPr>
          <p:spPr>
            <a:xfrm>
              <a:off x="3168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2"/>
            <p:cNvSpPr/>
            <p:nvPr/>
          </p:nvSpPr>
          <p:spPr>
            <a:xfrm>
              <a:off x="3708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2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5"/>
            <p:cNvSpPr/>
            <p:nvPr/>
          </p:nvSpPr>
          <p:spPr>
            <a:xfrm>
              <a:off x="2216520" y="2895480"/>
              <a:ext cx="106164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М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инималь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И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нгибирующ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К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онцентрац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6"/>
            <p:cNvSpPr/>
            <p:nvPr/>
          </p:nvSpPr>
          <p:spPr>
            <a:xfrm>
              <a:off x="3238560" y="2666880"/>
              <a:ext cx="1638360" cy="64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ерийные разведения в бульон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5"/>
            <p:cNvSpPr/>
            <p:nvPr/>
          </p:nvSpPr>
          <p:spPr>
            <a:xfrm>
              <a:off x="3708000" y="5486400"/>
              <a:ext cx="17020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Диффузия в ага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6"/>
            <p:cNvSpPr/>
            <p:nvPr/>
          </p:nvSpPr>
          <p:spPr>
            <a:xfrm>
              <a:off x="858960" y="3869280"/>
              <a:ext cx="833400" cy="16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растущи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7"/>
            <p:cNvSpPr/>
            <p:nvPr/>
          </p:nvSpPr>
          <p:spPr>
            <a:xfrm>
              <a:off x="838800" y="3557880"/>
              <a:ext cx="137088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Чашка агара 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18"/>
            <p:cNvSpPr/>
            <p:nvPr/>
          </p:nvSpPr>
          <p:spPr>
            <a:xfrm>
              <a:off x="798840" y="3750480"/>
              <a:ext cx="893520" cy="13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газоно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19"/>
            <p:cNvSpPr/>
            <p:nvPr/>
          </p:nvSpPr>
          <p:spPr>
            <a:xfrm>
              <a:off x="802800" y="4038480"/>
              <a:ext cx="79200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бактери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21"/>
            <p:cNvSpPr/>
            <p:nvPr/>
          </p:nvSpPr>
          <p:spPr>
            <a:xfrm>
              <a:off x="2736000" y="5562720"/>
              <a:ext cx="432000" cy="252000"/>
            </a:xfrm>
            <a:prstGeom prst="rect">
              <a:avLst/>
            </a:prstGeom>
            <a:solidFill>
              <a:srgbClr val="ff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Разме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зон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22"/>
            <p:cNvSpPr/>
            <p:nvPr/>
          </p:nvSpPr>
          <p:spPr>
            <a:xfrm>
              <a:off x="2684160" y="4572000"/>
              <a:ext cx="897120" cy="483480"/>
            </a:xfrm>
            <a:prstGeom prst="rect">
              <a:avLst/>
            </a:prstGeom>
            <a:solidFill>
              <a:srgbClr val="fc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Зона задержки роста бактер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23"/>
            <p:cNvSpPr/>
            <p:nvPr/>
          </p:nvSpPr>
          <p:spPr>
            <a:xfrm>
              <a:off x="1617120" y="5014080"/>
              <a:ext cx="897120" cy="396000"/>
            </a:xfrm>
            <a:prstGeom prst="rect">
              <a:avLst/>
            </a:prstGeom>
            <a:solidFill>
              <a:srgbClr val="ff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Диск, пропитанный антибиотико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24"/>
            <p:cNvSpPr/>
            <p:nvPr/>
          </p:nvSpPr>
          <p:spPr>
            <a:xfrm>
              <a:off x="1723680" y="5410080"/>
              <a:ext cx="432000" cy="252000"/>
            </a:xfrm>
            <a:prstGeom prst="rect">
              <a:avLst/>
            </a:prstGeom>
            <a:solidFill>
              <a:srgbClr val="ff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26"/>
            <p:cNvSpPr/>
            <p:nvPr/>
          </p:nvSpPr>
          <p:spPr>
            <a:xfrm>
              <a:off x="4876920" y="1260720"/>
              <a:ext cx="3200400" cy="201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Анализы на чувствительность определяют, будет ли бактериальный рост подавляться антибиотиком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Чувствительность базируется на концентрации антибиотика, при которой нет заметного на глаз роста бактерий (см. МИК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28"/>
            <p:cNvSpPr/>
            <p:nvPr/>
          </p:nvSpPr>
          <p:spPr>
            <a:xfrm>
              <a:off x="4068000" y="4536000"/>
              <a:ext cx="5785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М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TextBox 29" descr=""/>
            <p:cNvPicPr/>
            <p:nvPr/>
          </p:nvPicPr>
          <p:blipFill>
            <a:blip r:embed="rId2"/>
            <a:stretch/>
          </p:blipFill>
          <p:spPr>
            <a:xfrm>
              <a:off x="3584520" y="3474720"/>
              <a:ext cx="26208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30"/>
            <p:cNvSpPr/>
            <p:nvPr/>
          </p:nvSpPr>
          <p:spPr>
            <a:xfrm>
              <a:off x="4248000" y="3600000"/>
              <a:ext cx="1260000" cy="3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Примечание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По размеру зоны можно вычислить МИК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31"/>
            <p:cNvSpPr/>
            <p:nvPr/>
          </p:nvSpPr>
          <p:spPr>
            <a:xfrm>
              <a:off x="4572000" y="3961080"/>
              <a:ext cx="1049040" cy="19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Чем меньше зона, тем выше МИК.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32"/>
            <p:cNvSpPr/>
            <p:nvPr/>
          </p:nvSpPr>
          <p:spPr>
            <a:xfrm>
              <a:off x="5621400" y="3516840"/>
              <a:ext cx="2379960" cy="2438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Чувствитель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Бактерии считаются чувствительными к антибиотику, если подавление их роста происходит при такой концентрации антибиотика, которую </a:t>
              </a:r>
              <a:r>
                <a:rPr b="1" lang="ru-RU" sz="1000" spc="-1" strike="noStrike">
                  <a:solidFill>
                    <a:srgbClr val="e68e00"/>
                  </a:solidFill>
                  <a:latin typeface="Arial"/>
                </a:rPr>
                <a:t>ЛЕГКО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создать в </a:t>
              </a:r>
              <a:r>
                <a:rPr b="1" lang="ru-RU" sz="1000" spc="-1" strike="noStrike">
                  <a:solidFill>
                    <a:srgbClr val="e68e00"/>
                  </a:solidFill>
                  <a:latin typeface="Arial"/>
                </a:rPr>
                <a:t>СЫВОРОТКЕ КРОВИ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пациента и которая будет </a:t>
              </a:r>
              <a:r>
                <a:rPr b="1" lang="ru-RU" sz="1000" spc="-1" strike="noStrike">
                  <a:solidFill>
                    <a:srgbClr val="e68e00"/>
                  </a:solidFill>
                  <a:latin typeface="Arial"/>
                </a:rPr>
                <a:t>БЕЗОПАСНА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для пациента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В этом случае ожидается положительная реакция на лечени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Устойчив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ротивоположность чувствительных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BD39-55D8-4E65-88E1-E58578478F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131E-5F09-4B10-BA8A-65AB57C75DFD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457200" y="3017880"/>
            <a:ext cx="2556000" cy="3306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7" name="Text Box 3"/>
          <p:cNvSpPr/>
          <p:nvPr/>
        </p:nvSpPr>
        <p:spPr>
          <a:xfrm>
            <a:off x="533520" y="1143000"/>
            <a:ext cx="822960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итут клинических и лабораторных стандартов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ство микробиологии Фр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ство микробной химиотерапии 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2"/>
          <a:stretch/>
        </p:blipFill>
        <p:spPr>
          <a:xfrm>
            <a:off x="6172200" y="3017880"/>
            <a:ext cx="2362320" cy="330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209" name="Object 6"/>
          <p:cNvGraphicFramePr/>
          <p:nvPr/>
        </p:nvGraphicFramePr>
        <p:xfrm>
          <a:off x="3429000" y="3017880"/>
          <a:ext cx="2490840" cy="33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017880"/>
                    <a:ext cx="2490840" cy="3306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1" name="Text Box 8"/>
          <p:cNvSpPr/>
          <p:nvPr/>
        </p:nvSpPr>
        <p:spPr>
          <a:xfrm>
            <a:off x="457200" y="457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точник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198F-FB4F-4333-B501-8961183924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6476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ля примера – выдержка из одного из источников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br>
              <a:rPr sz="28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препаратов для анализ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32B5-0475-4EAD-98DA-A5BDEB92D0F5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414360" y="232560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32560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TextBox 1" descr=""/>
          <p:cNvPicPr/>
          <p:nvPr/>
        </p:nvPicPr>
        <p:blipFill>
          <a:blip r:embed="rId3"/>
          <a:stretch/>
        </p:blipFill>
        <p:spPr>
          <a:xfrm>
            <a:off x="609480" y="2925720"/>
            <a:ext cx="706680" cy="13543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"/>
          <p:cNvSpPr/>
          <p:nvPr/>
        </p:nvSpPr>
        <p:spPr>
          <a:xfrm>
            <a:off x="533520" y="2124000"/>
            <a:ext cx="79675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блица 1. Группы одобренных Управлением по продовольствию и медикаментам США антимикробных препаратов, рекомендуемые лабораториям клинической микробиологии для плановых анализов и отчетности по «непривередливым» микроорганизмам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DF95-0500-4C4B-AA0F-371C2E8B36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AC7D-6AE5-4F3D-A1DE-2A159E937C06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455760"/>
            <a:ext cx="7543800" cy="17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может быть источником ошибки в анализах на чувствитель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81040"/>
            <a:ext cx="7772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икробиологические сред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тимикробные препара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ультура для посе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нкуб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борудование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C5E2-04ED-42B7-9A2C-337B4E01F2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3BF9-5D5D-4771-B25E-C6ECF22FA7D5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71629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тод диффузии в агар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52760"/>
            <a:ext cx="861048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гар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сотой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юллер-Хинтон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 7.2–7.4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нимум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0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тибиотикам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евна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кФарланд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0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актери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культур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рмостат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душная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тмосферный воздух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E99F-412B-47CA-BB3E-D15A6A3D38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483A-739C-4408-B90F-E02C47D19E02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ные шт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92468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685800" y="380988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икроорганизмы для КК должны быть получены из надежного источни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определенные микроорганизмы в анализах разных комбинаций «бактерии-антибиот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Olga</cp:lastModifiedBy>
  <dcterms:modified xsi:type="dcterms:W3CDTF">2013-05-12T11:00:29Z</dcterms:modified>
  <cp:revision>32</cp:revision>
  <dc:subject/>
  <dc:title>Microbiology QC</dc:title>
</cp:coreProperties>
</file>